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26.jpeg" ContentType="image/jpeg"/>
  <Override PartName="/ppt/media/image5.jpeg" ContentType="image/jpeg"/>
  <Override PartName="/ppt/media/image32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30.wmf" ContentType="image/x-wmf"/>
  <Override PartName="/ppt/media/image28.jpeg" ContentType="image/jpeg"/>
  <Override PartName="/ppt/media/image12.jpeg" ContentType="image/jpeg"/>
  <Override PartName="/ppt/media/image9.jpeg" ContentType="image/jpeg"/>
  <Override PartName="/ppt/media/image31.png" ContentType="image/png"/>
  <Override PartName="/ppt/media/image4.jpeg" ContentType="image/jpeg"/>
  <Override PartName="/ppt/media/image25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media/image18.jpeg" ContentType="image/jpeg"/>
  <Override PartName="/ppt/media/image19.jpeg" ContentType="image/jpeg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  <p:sldId id="276" r:id="rId51"/>
    <p:sldId id="277" r:id="rId52"/>
    <p:sldId id="278" r:id="rId53"/>
    <p:sldId id="279" r:id="rId54"/>
    <p:sldId id="280" r:id="rId55"/>
    <p:sldId id="281" r:id="rId56"/>
    <p:sldId id="282" r:id="rId57"/>
    <p:sldId id="283" r:id="rId58"/>
    <p:sldId id="284" r:id="rId59"/>
    <p:sldId id="285" r:id="rId60"/>
    <p:sldId id="286" r:id="rId61"/>
    <p:sldId id="287" r:id="rId62"/>
    <p:sldId id="288" r:id="rId63"/>
    <p:sldId id="289" r:id="rId64"/>
    <p:sldId id="290" r:id="rId6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slide" Target="slides/slide21.xml"/><Relationship Id="rId52" Type="http://schemas.openxmlformats.org/officeDocument/2006/relationships/slide" Target="slides/slide22.xml"/><Relationship Id="rId53" Type="http://schemas.openxmlformats.org/officeDocument/2006/relationships/slide" Target="slides/slide23.xml"/><Relationship Id="rId54" Type="http://schemas.openxmlformats.org/officeDocument/2006/relationships/slide" Target="slides/slide24.xml"/><Relationship Id="rId55" Type="http://schemas.openxmlformats.org/officeDocument/2006/relationships/slide" Target="slides/slide25.xml"/><Relationship Id="rId56" Type="http://schemas.openxmlformats.org/officeDocument/2006/relationships/slide" Target="slides/slide26.xml"/><Relationship Id="rId57" Type="http://schemas.openxmlformats.org/officeDocument/2006/relationships/slide" Target="slides/slide27.xml"/><Relationship Id="rId58" Type="http://schemas.openxmlformats.org/officeDocument/2006/relationships/slide" Target="slides/slide28.xml"/><Relationship Id="rId59" Type="http://schemas.openxmlformats.org/officeDocument/2006/relationships/slide" Target="slides/slide29.xml"/><Relationship Id="rId60" Type="http://schemas.openxmlformats.org/officeDocument/2006/relationships/slide" Target="slides/slide30.xml"/><Relationship Id="rId61" Type="http://schemas.openxmlformats.org/officeDocument/2006/relationships/slide" Target="slides/slide31.xml"/><Relationship Id="rId62" Type="http://schemas.openxmlformats.org/officeDocument/2006/relationships/slide" Target="slides/slide32.xml"/><Relationship Id="rId63" Type="http://schemas.openxmlformats.org/officeDocument/2006/relationships/slide" Target="slides/slide33.xml"/><Relationship Id="rId64" Type="http://schemas.openxmlformats.org/officeDocument/2006/relationships/slide" Target="slides/slide34.xml"/><Relationship Id="rId65" Type="http://schemas.openxmlformats.org/officeDocument/2006/relationships/slide" Target="slides/slide35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353880" y="1407600"/>
            <a:ext cx="11414160" cy="614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2134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80726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5388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42134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80726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353880" y="1407600"/>
            <a:ext cx="11414160" cy="614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134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726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5388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2134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726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2134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0726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35388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42134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80726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353880" y="1407600"/>
            <a:ext cx="11414160" cy="614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2134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0726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5388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2134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0726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353880" y="1407600"/>
            <a:ext cx="11414160" cy="614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2134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0726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35388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42134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80726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353880" y="1407600"/>
            <a:ext cx="11414160" cy="614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2134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80726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35388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42134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80726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353880" y="1407600"/>
            <a:ext cx="11414160" cy="614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2134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80726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35388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2134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80726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353880" y="1407600"/>
            <a:ext cx="11414160" cy="614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53880" y="1407600"/>
            <a:ext cx="11414160" cy="614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2134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80726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35388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42134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80726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353880" y="1407600"/>
            <a:ext cx="11414160" cy="614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2134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80726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35388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42134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80726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353880" y="1407600"/>
            <a:ext cx="11414160" cy="614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2134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80726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35388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42134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80726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353880" y="1407600"/>
            <a:ext cx="11414160" cy="614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2134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80726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35388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42134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80726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353880" y="1407600"/>
            <a:ext cx="11414160" cy="614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2134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80726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35388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42134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80726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353880" y="1407600"/>
            <a:ext cx="11414160" cy="614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134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0726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5388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2134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80726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2134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80726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35388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42134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80726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353880" y="1407600"/>
            <a:ext cx="11414160" cy="614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2134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80726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35388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42134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80726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353880" y="1407600"/>
            <a:ext cx="11414160" cy="614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2134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0726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35388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42134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80726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353880" y="1407600"/>
            <a:ext cx="11414160" cy="614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2134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80726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35388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42134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80726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353880" y="1407600"/>
            <a:ext cx="11414160" cy="614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2134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80726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35388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42134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80726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353880" y="1407600"/>
            <a:ext cx="11414160" cy="614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53880" y="1407600"/>
            <a:ext cx="11414160" cy="614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2134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80726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35388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6"/>
          <p:cNvSpPr>
            <a:spLocks noGrp="1"/>
          </p:cNvSpPr>
          <p:nvPr>
            <p:ph/>
          </p:nvPr>
        </p:nvSpPr>
        <p:spPr>
          <a:xfrm>
            <a:off x="42134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7"/>
          <p:cNvSpPr>
            <a:spLocks noGrp="1"/>
          </p:cNvSpPr>
          <p:nvPr>
            <p:ph/>
          </p:nvPr>
        </p:nvSpPr>
        <p:spPr>
          <a:xfrm>
            <a:off x="80726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353880" y="1407600"/>
            <a:ext cx="11414160" cy="614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2134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80726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35388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42134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80726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ubTitle"/>
          </p:nvPr>
        </p:nvSpPr>
        <p:spPr>
          <a:xfrm>
            <a:off x="353880" y="1407600"/>
            <a:ext cx="11414160" cy="614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2134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80726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35388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6"/>
          <p:cNvSpPr>
            <a:spLocks noGrp="1"/>
          </p:cNvSpPr>
          <p:nvPr>
            <p:ph/>
          </p:nvPr>
        </p:nvSpPr>
        <p:spPr>
          <a:xfrm>
            <a:off x="42134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7"/>
          <p:cNvSpPr>
            <a:spLocks noGrp="1"/>
          </p:cNvSpPr>
          <p:nvPr>
            <p:ph/>
          </p:nvPr>
        </p:nvSpPr>
        <p:spPr>
          <a:xfrm>
            <a:off x="80726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subTitle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ubTitle"/>
          </p:nvPr>
        </p:nvSpPr>
        <p:spPr>
          <a:xfrm>
            <a:off x="353880" y="1407600"/>
            <a:ext cx="11414160" cy="614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2134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80726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35388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6"/>
          <p:cNvSpPr>
            <a:spLocks noGrp="1"/>
          </p:cNvSpPr>
          <p:nvPr>
            <p:ph/>
          </p:nvPr>
        </p:nvSpPr>
        <p:spPr>
          <a:xfrm>
            <a:off x="42134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7"/>
          <p:cNvSpPr>
            <a:spLocks noGrp="1"/>
          </p:cNvSpPr>
          <p:nvPr>
            <p:ph/>
          </p:nvPr>
        </p:nvSpPr>
        <p:spPr>
          <a:xfrm>
            <a:off x="80726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subTitle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subTitle"/>
          </p:nvPr>
        </p:nvSpPr>
        <p:spPr>
          <a:xfrm>
            <a:off x="353880" y="1407600"/>
            <a:ext cx="11414160" cy="614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2134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80726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35388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6"/>
          <p:cNvSpPr>
            <a:spLocks noGrp="1"/>
          </p:cNvSpPr>
          <p:nvPr>
            <p:ph/>
          </p:nvPr>
        </p:nvSpPr>
        <p:spPr>
          <a:xfrm>
            <a:off x="42134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7"/>
          <p:cNvSpPr>
            <a:spLocks noGrp="1"/>
          </p:cNvSpPr>
          <p:nvPr>
            <p:ph/>
          </p:nvPr>
        </p:nvSpPr>
        <p:spPr>
          <a:xfrm>
            <a:off x="80726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2134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0726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5388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2134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80726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53880" y="1407600"/>
            <a:ext cx="11414160" cy="614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134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0726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5388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2134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80726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353880" y="1407600"/>
            <a:ext cx="11414160" cy="614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53880" y="1407600"/>
            <a:ext cx="11414160" cy="614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134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0726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5388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42134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80726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353880" y="1407600"/>
            <a:ext cx="11414160" cy="614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2134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80726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35388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42134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80726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353880" y="1407600"/>
            <a:ext cx="11414160" cy="614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2134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0726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35388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42134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80726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353880" y="1407600"/>
            <a:ext cx="11414160" cy="614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53880" y="4913640"/>
            <a:ext cx="114141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02800" y="321120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35388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6202800" y="4913640"/>
            <a:ext cx="55699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2134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8072640" y="321120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35388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42134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8072640" y="4913640"/>
            <a:ext cx="36752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2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3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4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image" Target="../media/image15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image" Target="../media/image18.jpeg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image" Target="../media/image19.jpeg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wmf"/><Relationship Id="rId3" Type="http://schemas.openxmlformats.org/officeDocument/2006/relationships/image" Target="../media/image16.jpeg"/><Relationship Id="rId4" Type="http://schemas.openxmlformats.org/officeDocument/2006/relationships/image" Target="../media/image3.wmf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wmf"/><Relationship Id="rId3" Type="http://schemas.openxmlformats.org/officeDocument/2006/relationships/image" Target="../media/image18.jpeg"/><Relationship Id="rId4" Type="http://schemas.openxmlformats.org/officeDocument/2006/relationships/image" Target="../media/image3.wmf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wmf"/><Relationship Id="rId3" Type="http://schemas.openxmlformats.org/officeDocument/2006/relationships/image" Target="../media/image19.jpeg"/><Relationship Id="rId4" Type="http://schemas.openxmlformats.org/officeDocument/2006/relationships/image" Target="../media/image3.wmf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wmf"/><Relationship Id="rId3" Type="http://schemas.openxmlformats.org/officeDocument/2006/relationships/image" Target="../media/image7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wmf"/><Relationship Id="rId3" Type="http://schemas.openxmlformats.org/officeDocument/2006/relationships/image" Target="../media/image10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wmf"/><Relationship Id="rId3" Type="http://schemas.openxmlformats.org/officeDocument/2006/relationships/image" Target="../media/image10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wmf"/><Relationship Id="rId3" Type="http://schemas.openxmlformats.org/officeDocument/2006/relationships/image" Target="../media/image10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6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7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8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9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0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1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11" descr=""/>
          <p:cNvPicPr/>
          <p:nvPr/>
        </p:nvPicPr>
        <p:blipFill>
          <a:blip r:embed="rId2"/>
          <a:stretch/>
        </p:blipFill>
        <p:spPr>
          <a:xfrm>
            <a:off x="353880" y="316080"/>
            <a:ext cx="1316160" cy="614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0d0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11" descr=""/>
          <p:cNvPicPr/>
          <p:nvPr/>
        </p:nvPicPr>
        <p:blipFill>
          <a:blip r:embed="rId2"/>
          <a:stretch/>
        </p:blipFill>
        <p:spPr>
          <a:xfrm>
            <a:off x="353880" y="316080"/>
            <a:ext cx="1316160" cy="6141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1" descr=""/>
          <p:cNvPicPr/>
          <p:nvPr/>
        </p:nvPicPr>
        <p:blipFill>
          <a:blip r:embed="rId4"/>
          <a:stretch/>
        </p:blipFill>
        <p:spPr>
          <a:xfrm>
            <a:off x="353880" y="316080"/>
            <a:ext cx="1316160" cy="6141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11" descr=""/>
          <p:cNvPicPr/>
          <p:nvPr/>
        </p:nvPicPr>
        <p:blipFill>
          <a:blip r:embed="rId2"/>
          <a:stretch/>
        </p:blipFill>
        <p:spPr>
          <a:xfrm>
            <a:off x="353880" y="316080"/>
            <a:ext cx="1316160" cy="6141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1" descr=""/>
          <p:cNvPicPr/>
          <p:nvPr/>
        </p:nvPicPr>
        <p:blipFill>
          <a:blip r:embed="rId4"/>
          <a:stretch/>
        </p:blipFill>
        <p:spPr>
          <a:xfrm>
            <a:off x="353880" y="316080"/>
            <a:ext cx="1316160" cy="61416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11" descr=""/>
          <p:cNvPicPr/>
          <p:nvPr/>
        </p:nvPicPr>
        <p:blipFill>
          <a:blip r:embed="rId2"/>
          <a:stretch/>
        </p:blipFill>
        <p:spPr>
          <a:xfrm>
            <a:off x="353880" y="316080"/>
            <a:ext cx="1316160" cy="6141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1" descr=""/>
          <p:cNvPicPr/>
          <p:nvPr/>
        </p:nvPicPr>
        <p:blipFill>
          <a:blip r:embed="rId4"/>
          <a:stretch/>
        </p:blipFill>
        <p:spPr>
          <a:xfrm>
            <a:off x="353880" y="316080"/>
            <a:ext cx="1316160" cy="61416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11" descr=""/>
          <p:cNvPicPr/>
          <p:nvPr/>
        </p:nvPicPr>
        <p:blipFill>
          <a:blip r:embed="rId2"/>
          <a:stretch/>
        </p:blipFill>
        <p:spPr>
          <a:xfrm>
            <a:off x="353880" y="316080"/>
            <a:ext cx="1316160" cy="6141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1" descr=""/>
          <p:cNvPicPr/>
          <p:nvPr/>
        </p:nvPicPr>
        <p:blipFill>
          <a:blip r:embed="rId4"/>
          <a:stretch/>
        </p:blipFill>
        <p:spPr>
          <a:xfrm>
            <a:off x="353880" y="316080"/>
            <a:ext cx="1316160" cy="61416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11" descr=""/>
          <p:cNvPicPr/>
          <p:nvPr/>
        </p:nvPicPr>
        <p:blipFill>
          <a:blip r:embed="rId2"/>
          <a:stretch/>
        </p:blipFill>
        <p:spPr>
          <a:xfrm>
            <a:off x="353880" y="316080"/>
            <a:ext cx="1316160" cy="61416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TextBox 5"/>
          <p:cNvSpPr/>
          <p:nvPr/>
        </p:nvSpPr>
        <p:spPr>
          <a:xfrm>
            <a:off x="6608880" y="2506680"/>
            <a:ext cx="4064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  <a:ea typeface="SimSun"/>
              </a:rPr>
              <a:t>Thank you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For more information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visit www.hull.ac.u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5" name="Picture 7" descr=""/>
          <p:cNvPicPr/>
          <p:nvPr/>
        </p:nvPicPr>
        <p:blipFill>
          <a:blip r:embed="rId4"/>
          <a:stretch/>
        </p:blipFill>
        <p:spPr>
          <a:xfrm>
            <a:off x="1560600" y="2413080"/>
            <a:ext cx="4356000" cy="203184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11" descr=""/>
          <p:cNvPicPr/>
          <p:nvPr/>
        </p:nvPicPr>
        <p:blipFill>
          <a:blip r:embed="rId2"/>
          <a:stretch/>
        </p:blipFill>
        <p:spPr>
          <a:xfrm>
            <a:off x="353880" y="316080"/>
            <a:ext cx="1316160" cy="61416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76" name="TextBox 5"/>
          <p:cNvSpPr/>
          <p:nvPr/>
        </p:nvSpPr>
        <p:spPr>
          <a:xfrm>
            <a:off x="6608880" y="2506680"/>
            <a:ext cx="4064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  <a:ea typeface="SimSun"/>
              </a:rPr>
              <a:t>Thank you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For more information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visit www.hull.ac.u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7" name="Picture 7" descr=""/>
          <p:cNvPicPr/>
          <p:nvPr/>
        </p:nvPicPr>
        <p:blipFill>
          <a:blip r:embed="rId4"/>
          <a:stretch/>
        </p:blipFill>
        <p:spPr>
          <a:xfrm>
            <a:off x="1560600" y="2413080"/>
            <a:ext cx="4356000" cy="2031840"/>
          </a:xfrm>
          <a:prstGeom prst="rect">
            <a:avLst/>
          </a:prstGeom>
          <a:ln w="0">
            <a:noFill/>
          </a:ln>
        </p:spPr>
      </p:pic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11" descr=""/>
          <p:cNvPicPr/>
          <p:nvPr/>
        </p:nvPicPr>
        <p:blipFill>
          <a:blip r:embed="rId2"/>
          <a:stretch/>
        </p:blipFill>
        <p:spPr>
          <a:xfrm>
            <a:off x="353880" y="316080"/>
            <a:ext cx="1316160" cy="61416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18" name="TextBox 5"/>
          <p:cNvSpPr/>
          <p:nvPr/>
        </p:nvSpPr>
        <p:spPr>
          <a:xfrm>
            <a:off x="6608880" y="2506680"/>
            <a:ext cx="4064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  <a:ea typeface="SimSun"/>
              </a:rPr>
              <a:t>Thank you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For more information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visit www.hull.ac.u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7" descr=""/>
          <p:cNvPicPr/>
          <p:nvPr/>
        </p:nvPicPr>
        <p:blipFill>
          <a:blip r:embed="rId4"/>
          <a:stretch/>
        </p:blipFill>
        <p:spPr>
          <a:xfrm>
            <a:off x="1560600" y="2413080"/>
            <a:ext cx="4356000" cy="2031840"/>
          </a:xfrm>
          <a:prstGeom prst="rect">
            <a:avLst/>
          </a:prstGeom>
          <a:ln w="0">
            <a:noFill/>
          </a:ln>
        </p:spPr>
      </p:pic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11" descr=""/>
          <p:cNvPicPr/>
          <p:nvPr/>
        </p:nvPicPr>
        <p:blipFill>
          <a:blip r:embed="rId2"/>
          <a:stretch/>
        </p:blipFill>
        <p:spPr>
          <a:xfrm>
            <a:off x="353880" y="316080"/>
            <a:ext cx="1316160" cy="61416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5" descr=""/>
          <p:cNvPicPr/>
          <p:nvPr/>
        </p:nvPicPr>
        <p:blipFill>
          <a:blip r:embed="rId4"/>
          <a:stretch/>
        </p:blipFill>
        <p:spPr>
          <a:xfrm>
            <a:off x="334800" y="330120"/>
            <a:ext cx="1316160" cy="61452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6" descr=""/>
          <p:cNvPicPr/>
          <p:nvPr/>
        </p:nvPicPr>
        <p:blipFill>
          <a:blip r:embed="rId5"/>
          <a:stretch/>
        </p:blipFill>
        <p:spPr>
          <a:xfrm>
            <a:off x="299880" y="4483080"/>
            <a:ext cx="5691240" cy="2865600"/>
          </a:xfrm>
          <a:prstGeom prst="rect">
            <a:avLst/>
          </a:prstGeom>
          <a:ln w="0">
            <a:noFill/>
          </a:ln>
        </p:spPr>
      </p:pic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Picture 11" descr=""/>
          <p:cNvPicPr/>
          <p:nvPr/>
        </p:nvPicPr>
        <p:blipFill>
          <a:blip r:embed="rId2"/>
          <a:stretch/>
        </p:blipFill>
        <p:spPr>
          <a:xfrm>
            <a:off x="353880" y="316080"/>
            <a:ext cx="1316160" cy="61416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5" descr=""/>
          <p:cNvPicPr/>
          <p:nvPr/>
        </p:nvPicPr>
        <p:blipFill>
          <a:blip r:embed="rId4"/>
          <a:stretch/>
        </p:blipFill>
        <p:spPr>
          <a:xfrm>
            <a:off x="334800" y="330120"/>
            <a:ext cx="1316160" cy="61452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6" descr=""/>
          <p:cNvPicPr/>
          <p:nvPr/>
        </p:nvPicPr>
        <p:blipFill>
          <a:blip r:embed="rId5"/>
          <a:stretch/>
        </p:blipFill>
        <p:spPr>
          <a:xfrm>
            <a:off x="299880" y="4483080"/>
            <a:ext cx="5691240" cy="2865600"/>
          </a:xfrm>
          <a:prstGeom prst="rect">
            <a:avLst/>
          </a:prstGeom>
          <a:ln w="0">
            <a:noFill/>
          </a:ln>
        </p:spPr>
      </p:pic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11" descr=""/>
          <p:cNvPicPr/>
          <p:nvPr/>
        </p:nvPicPr>
        <p:blipFill>
          <a:blip r:embed="rId2"/>
          <a:stretch/>
        </p:blipFill>
        <p:spPr>
          <a:xfrm>
            <a:off x="353880" y="316080"/>
            <a:ext cx="1316160" cy="61416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5" descr=""/>
          <p:cNvPicPr/>
          <p:nvPr/>
        </p:nvPicPr>
        <p:blipFill>
          <a:blip r:embed="rId4"/>
          <a:stretch/>
        </p:blipFill>
        <p:spPr>
          <a:xfrm>
            <a:off x="334800" y="330120"/>
            <a:ext cx="1316160" cy="61452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6" descr=""/>
          <p:cNvPicPr/>
          <p:nvPr/>
        </p:nvPicPr>
        <p:blipFill>
          <a:blip r:embed="rId5"/>
          <a:stretch/>
        </p:blipFill>
        <p:spPr>
          <a:xfrm>
            <a:off x="299880" y="4483080"/>
            <a:ext cx="5691240" cy="2865600"/>
          </a:xfrm>
          <a:prstGeom prst="rect">
            <a:avLst/>
          </a:prstGeom>
          <a:ln w="0">
            <a:noFill/>
          </a:ln>
        </p:spPr>
      </p:pic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353880" y="316080"/>
            <a:ext cx="1316160" cy="6141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5" descr=""/>
          <p:cNvPicPr/>
          <p:nvPr/>
        </p:nvPicPr>
        <p:blipFill>
          <a:blip r:embed="rId4"/>
          <a:stretch/>
        </p:blipFill>
        <p:spPr>
          <a:xfrm>
            <a:off x="334800" y="330120"/>
            <a:ext cx="1316160" cy="614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Picture 11" descr=""/>
          <p:cNvPicPr/>
          <p:nvPr/>
        </p:nvPicPr>
        <p:blipFill>
          <a:blip r:embed="rId2"/>
          <a:stretch/>
        </p:blipFill>
        <p:spPr>
          <a:xfrm>
            <a:off x="353880" y="316080"/>
            <a:ext cx="1316160" cy="61416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5" descr=""/>
          <p:cNvPicPr/>
          <p:nvPr/>
        </p:nvPicPr>
        <p:blipFill>
          <a:blip r:embed="rId3"/>
          <a:stretch/>
        </p:blipFill>
        <p:spPr>
          <a:xfrm>
            <a:off x="3247920" y="1436760"/>
            <a:ext cx="1316160" cy="615960"/>
          </a:xfrm>
          <a:prstGeom prst="rect">
            <a:avLst/>
          </a:prstGeom>
          <a:ln w="0">
            <a:noFill/>
          </a:ln>
        </p:spPr>
      </p:pic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Picture 11" descr=""/>
          <p:cNvPicPr/>
          <p:nvPr/>
        </p:nvPicPr>
        <p:blipFill>
          <a:blip r:embed="rId2"/>
          <a:stretch/>
        </p:blipFill>
        <p:spPr>
          <a:xfrm>
            <a:off x="353880" y="316080"/>
            <a:ext cx="1316160" cy="61416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6" descr=""/>
          <p:cNvPicPr/>
          <p:nvPr/>
        </p:nvPicPr>
        <p:blipFill>
          <a:blip r:embed="rId3"/>
          <a:stretch/>
        </p:blipFill>
        <p:spPr>
          <a:xfrm>
            <a:off x="299880" y="4103640"/>
            <a:ext cx="6445440" cy="324504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11" descr=""/>
          <p:cNvPicPr/>
          <p:nvPr/>
        </p:nvPicPr>
        <p:blipFill>
          <a:blip r:embed="rId2"/>
          <a:stretch/>
        </p:blipFill>
        <p:spPr>
          <a:xfrm>
            <a:off x="353880" y="316080"/>
            <a:ext cx="1316160" cy="614160"/>
          </a:xfrm>
          <a:prstGeom prst="rect">
            <a:avLst/>
          </a:prstGeom>
          <a:ln w="0">
            <a:noFill/>
          </a:ln>
        </p:spPr>
      </p:pic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Picture 11" descr=""/>
          <p:cNvPicPr/>
          <p:nvPr/>
        </p:nvPicPr>
        <p:blipFill>
          <a:blip r:embed="rId2"/>
          <a:stretch/>
        </p:blipFill>
        <p:spPr>
          <a:xfrm>
            <a:off x="353880" y="316080"/>
            <a:ext cx="1316160" cy="614160"/>
          </a:xfrm>
          <a:prstGeom prst="rect">
            <a:avLst/>
          </a:prstGeom>
          <a:ln w="0">
            <a:noFill/>
          </a:ln>
        </p:spPr>
      </p:pic>
      <p:sp>
        <p:nvSpPr>
          <p:cNvPr id="904" name="Rectangle 4"/>
          <p:cNvSpPr/>
          <p:nvPr/>
        </p:nvSpPr>
        <p:spPr>
          <a:xfrm flipV="1">
            <a:off x="203040" y="151200"/>
            <a:ext cx="11785680" cy="6551640"/>
          </a:xfrm>
          <a:prstGeom prst="rect">
            <a:avLst/>
          </a:prstGeom>
          <a:solidFill>
            <a:srgbClr val="105b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5" name="Picture 11" descr=""/>
          <p:cNvPicPr/>
          <p:nvPr/>
        </p:nvPicPr>
        <p:blipFill>
          <a:blip r:embed="rId2"/>
          <a:stretch/>
        </p:blipFill>
        <p:spPr>
          <a:xfrm>
            <a:off x="353880" y="316080"/>
            <a:ext cx="1316160" cy="614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0d0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Picture 11" descr=""/>
          <p:cNvPicPr/>
          <p:nvPr/>
        </p:nvPicPr>
        <p:blipFill>
          <a:blip r:embed="rId2"/>
          <a:stretch/>
        </p:blipFill>
        <p:spPr>
          <a:xfrm>
            <a:off x="353880" y="316080"/>
            <a:ext cx="1316160" cy="61416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1" descr=""/>
          <p:cNvPicPr/>
          <p:nvPr/>
        </p:nvPicPr>
        <p:blipFill>
          <a:blip r:embed="rId4"/>
          <a:stretch/>
        </p:blipFill>
        <p:spPr>
          <a:xfrm>
            <a:off x="353880" y="316080"/>
            <a:ext cx="1316160" cy="614160"/>
          </a:xfrm>
          <a:prstGeom prst="rect">
            <a:avLst/>
          </a:prstGeom>
          <a:ln w="0">
            <a:noFill/>
          </a:ln>
        </p:spPr>
      </p:pic>
      <p:sp>
        <p:nvSpPr>
          <p:cNvPr id="1023" name="TextBox 6"/>
          <p:cNvSpPr/>
          <p:nvPr/>
        </p:nvSpPr>
        <p:spPr>
          <a:xfrm>
            <a:off x="192240" y="6488280"/>
            <a:ext cx="1188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Imagination Technologies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SimSun"/>
              </a:rPr>
              <a:t>版权所有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Picture 11" descr=""/>
          <p:cNvPicPr/>
          <p:nvPr/>
        </p:nvPicPr>
        <p:blipFill>
          <a:blip r:embed="rId2"/>
          <a:stretch/>
        </p:blipFill>
        <p:spPr>
          <a:xfrm>
            <a:off x="353880" y="316080"/>
            <a:ext cx="1316160" cy="61416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1" descr=""/>
          <p:cNvPicPr/>
          <p:nvPr/>
        </p:nvPicPr>
        <p:blipFill>
          <a:blip r:embed="rId4"/>
          <a:stretch/>
        </p:blipFill>
        <p:spPr>
          <a:xfrm>
            <a:off x="353880" y="316080"/>
            <a:ext cx="1316160" cy="614160"/>
          </a:xfrm>
          <a:prstGeom prst="rect">
            <a:avLst/>
          </a:prstGeom>
          <a:ln w="0">
            <a:noFill/>
          </a:ln>
        </p:spPr>
      </p:pic>
      <p:sp>
        <p:nvSpPr>
          <p:cNvPr id="1065" name="TextBox 6"/>
          <p:cNvSpPr/>
          <p:nvPr/>
        </p:nvSpPr>
        <p:spPr>
          <a:xfrm>
            <a:off x="192240" y="6488280"/>
            <a:ext cx="1188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SimSun"/>
              </a:rPr>
              <a:t>Imagination Technologies</a:t>
            </a:r>
            <a:r>
              <a:rPr b="0" lang="zh-CN" sz="1000" spc="-1" strike="noStrike">
                <a:solidFill>
                  <a:srgbClr val="ffffff"/>
                </a:solidFill>
                <a:latin typeface="Calibri"/>
                <a:ea typeface="SimSun"/>
              </a:rPr>
              <a:t>版权所有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4" name="Picture 11" descr=""/>
          <p:cNvPicPr/>
          <p:nvPr/>
        </p:nvPicPr>
        <p:blipFill>
          <a:blip r:embed="rId2"/>
          <a:stretch/>
        </p:blipFill>
        <p:spPr>
          <a:xfrm>
            <a:off x="353880" y="316080"/>
            <a:ext cx="1316160" cy="61416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11" descr=""/>
          <p:cNvPicPr/>
          <p:nvPr/>
        </p:nvPicPr>
        <p:blipFill>
          <a:blip r:embed="rId4"/>
          <a:stretch/>
        </p:blipFill>
        <p:spPr>
          <a:xfrm>
            <a:off x="353880" y="316080"/>
            <a:ext cx="1316160" cy="614160"/>
          </a:xfrm>
          <a:prstGeom prst="rect">
            <a:avLst/>
          </a:prstGeom>
          <a:ln w="0">
            <a:noFill/>
          </a:ln>
        </p:spPr>
      </p:pic>
      <p:sp>
        <p:nvSpPr>
          <p:cNvPr id="1107" name="TextBox 6"/>
          <p:cNvSpPr/>
          <p:nvPr/>
        </p:nvSpPr>
        <p:spPr>
          <a:xfrm>
            <a:off x="192240" y="6488280"/>
            <a:ext cx="1188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SimSun"/>
              </a:rPr>
              <a:t>Imagination Technologies</a:t>
            </a:r>
            <a:r>
              <a:rPr b="0" lang="zh-CN" sz="1000" spc="-1" strike="noStrike">
                <a:solidFill>
                  <a:srgbClr val="ffffff"/>
                </a:solidFill>
                <a:latin typeface="Calibri"/>
                <a:ea typeface="SimSun"/>
              </a:rPr>
              <a:t>版权所有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6" name="Picture 11" descr=""/>
          <p:cNvPicPr/>
          <p:nvPr/>
        </p:nvPicPr>
        <p:blipFill>
          <a:blip r:embed="rId2"/>
          <a:stretch/>
        </p:blipFill>
        <p:spPr>
          <a:xfrm>
            <a:off x="353880" y="316080"/>
            <a:ext cx="1316160" cy="61416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1" descr=""/>
          <p:cNvPicPr/>
          <p:nvPr/>
        </p:nvPicPr>
        <p:blipFill>
          <a:blip r:embed="rId4"/>
          <a:stretch/>
        </p:blipFill>
        <p:spPr>
          <a:xfrm>
            <a:off x="353880" y="316080"/>
            <a:ext cx="1316160" cy="614160"/>
          </a:xfrm>
          <a:prstGeom prst="rect">
            <a:avLst/>
          </a:prstGeom>
          <a:ln w="0">
            <a:noFill/>
          </a:ln>
        </p:spPr>
      </p:pic>
      <p:sp>
        <p:nvSpPr>
          <p:cNvPr id="1149" name="TextBox 6"/>
          <p:cNvSpPr/>
          <p:nvPr/>
        </p:nvSpPr>
        <p:spPr>
          <a:xfrm>
            <a:off x="192240" y="6488280"/>
            <a:ext cx="1188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SimSun"/>
              </a:rPr>
              <a:t>Imagination Technologies</a:t>
            </a:r>
            <a:r>
              <a:rPr b="0" lang="zh-CN" sz="1000" spc="-1" strike="noStrike">
                <a:solidFill>
                  <a:srgbClr val="ffffff"/>
                </a:solidFill>
                <a:latin typeface="Calibri"/>
                <a:ea typeface="SimSun"/>
              </a:rPr>
              <a:t>版权所有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"/>
          <p:cNvPicPr/>
          <p:nvPr/>
        </p:nvPicPr>
        <p:blipFill>
          <a:blip r:embed="rId2"/>
          <a:stretch/>
        </p:blipFill>
        <p:spPr>
          <a:xfrm>
            <a:off x="353880" y="316080"/>
            <a:ext cx="1316160" cy="614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4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5"/>
          <a:stretch/>
        </p:blipFill>
        <p:spPr>
          <a:xfrm>
            <a:off x="334800" y="330120"/>
            <a:ext cx="1316160" cy="6145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1" descr=""/>
          <p:cNvPicPr/>
          <p:nvPr/>
        </p:nvPicPr>
        <p:blipFill>
          <a:blip r:embed="rId2"/>
          <a:stretch/>
        </p:blipFill>
        <p:spPr>
          <a:xfrm>
            <a:off x="353880" y="316080"/>
            <a:ext cx="1316160" cy="614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4"/>
          <a:stretch/>
        </p:blipFill>
        <p:spPr>
          <a:xfrm>
            <a:off x="334800" y="330120"/>
            <a:ext cx="1316160" cy="6145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0d0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1" descr=""/>
          <p:cNvPicPr/>
          <p:nvPr/>
        </p:nvPicPr>
        <p:blipFill>
          <a:blip r:embed="rId2"/>
          <a:stretch/>
        </p:blipFill>
        <p:spPr>
          <a:xfrm>
            <a:off x="353880" y="316080"/>
            <a:ext cx="1316160" cy="614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"/>
          <p:cNvPicPr/>
          <p:nvPr/>
        </p:nvPicPr>
        <p:blipFill>
          <a:blip r:embed="rId4"/>
          <a:stretch/>
        </p:blipFill>
        <p:spPr>
          <a:xfrm>
            <a:off x="353880" y="316080"/>
            <a:ext cx="1316160" cy="6141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0d0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1" descr=""/>
          <p:cNvPicPr/>
          <p:nvPr/>
        </p:nvPicPr>
        <p:blipFill>
          <a:blip r:embed="rId2"/>
          <a:stretch/>
        </p:blipFill>
        <p:spPr>
          <a:xfrm>
            <a:off x="353880" y="316080"/>
            <a:ext cx="1316160" cy="6141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"/>
          <p:cNvPicPr/>
          <p:nvPr/>
        </p:nvPicPr>
        <p:blipFill>
          <a:blip r:embed="rId4"/>
          <a:stretch/>
        </p:blipFill>
        <p:spPr>
          <a:xfrm>
            <a:off x="353880" y="316080"/>
            <a:ext cx="1316160" cy="6141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0d0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1" descr=""/>
          <p:cNvPicPr/>
          <p:nvPr/>
        </p:nvPicPr>
        <p:blipFill>
          <a:blip r:embed="rId2"/>
          <a:stretch/>
        </p:blipFill>
        <p:spPr>
          <a:xfrm>
            <a:off x="353880" y="316080"/>
            <a:ext cx="1316160" cy="6141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1" descr=""/>
          <p:cNvPicPr/>
          <p:nvPr/>
        </p:nvPicPr>
        <p:blipFill>
          <a:blip r:embed="rId4"/>
          <a:stretch/>
        </p:blipFill>
        <p:spPr>
          <a:xfrm>
            <a:off x="353880" y="316080"/>
            <a:ext cx="1316160" cy="6141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1" descr=""/>
          <p:cNvPicPr/>
          <p:nvPr/>
        </p:nvPicPr>
        <p:blipFill>
          <a:blip r:embed="rId2"/>
          <a:stretch/>
        </p:blipFill>
        <p:spPr>
          <a:xfrm>
            <a:off x="353880" y="316080"/>
            <a:ext cx="1316160" cy="6141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1" descr=""/>
          <p:cNvPicPr/>
          <p:nvPr/>
        </p:nvPicPr>
        <p:blipFill>
          <a:blip r:embed="rId4"/>
          <a:stretch/>
        </p:blipFill>
        <p:spPr>
          <a:xfrm>
            <a:off x="353880" y="316080"/>
            <a:ext cx="1316160" cy="6141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0d0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11" descr=""/>
          <p:cNvPicPr/>
          <p:nvPr/>
        </p:nvPicPr>
        <p:blipFill>
          <a:blip r:embed="rId2"/>
          <a:stretch/>
        </p:blipFill>
        <p:spPr>
          <a:xfrm>
            <a:off x="353880" y="316080"/>
            <a:ext cx="1316160" cy="6141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1" descr=""/>
          <p:cNvPicPr/>
          <p:nvPr/>
        </p:nvPicPr>
        <p:blipFill>
          <a:blip r:embed="rId4"/>
          <a:stretch/>
        </p:blipFill>
        <p:spPr>
          <a:xfrm>
            <a:off x="353880" y="316080"/>
            <a:ext cx="1316160" cy="6141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www.imgtec.com/blog/" TargetMode="External"/><Relationship Id="rId2" Type="http://schemas.openxmlformats.org/officeDocument/2006/relationships/hyperlink" Target="https://www.imgtec.com/events/presentations/" TargetMode="External"/><Relationship Id="rId3" Type="http://schemas.openxmlformats.org/officeDocument/2006/relationships/hyperlink" Target="https://github.com/powervr-graphics/Native_SDK" TargetMode="External"/><Relationship Id="rId4" Type="http://schemas.openxmlformats.org/officeDocument/2006/relationships/hyperlink" Target="https://www.khronos.org/opengles/" TargetMode="External"/><Relationship Id="rId5" Type="http://schemas.openxmlformats.org/officeDocument/2006/relationships/slideLayout" Target="../slideLayouts/slideLayout3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hexgl.bkcore.com/play/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s://www.youtube.com/watch?v=mq9FcOEI4M8" TargetMode="External"/><Relationship Id="rId3" Type="http://schemas.openxmlformats.org/officeDocument/2006/relationships/slideLayout" Target="../slideLayouts/slideLayout3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forums.imgtec.com/" TargetMode="External"/><Relationship Id="rId2" Type="http://schemas.openxmlformats.org/officeDocument/2006/relationships/hyperlink" Target="https://www.imgtec.com/developers/" TargetMode="External"/><Relationship Id="rId3" Type="http://schemas.openxmlformats.org/officeDocument/2006/relationships/hyperlink" Target="https://www.imgtec.com/developers/powervr-sdk-tools/installers/" TargetMode="External"/><Relationship Id="rId4" Type="http://schemas.openxmlformats.org/officeDocument/2006/relationships/hyperlink" Target="https://docs.imgtec.com/" TargetMode="External"/><Relationship Id="rId5" Type="http://schemas.openxmlformats.org/officeDocument/2006/relationships/slideLayout" Target="../slideLayouts/slideLayout3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334440" y="1412640"/>
            <a:ext cx="10333080" cy="180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Calibri Light"/>
                <a:ea typeface="SimSun"/>
              </a:rPr>
              <a:t>移动图形技术简介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subTitle"/>
          </p:nvPr>
        </p:nvSpPr>
        <p:spPr>
          <a:xfrm>
            <a:off x="334800" y="6338880"/>
            <a:ext cx="11490480" cy="3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Darren McKie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SimSun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SimSun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SimSun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SimSun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SimSun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SimSun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SimSun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SimSun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SimSun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SimSun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v2.0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SimSu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0" name="Picture 2" descr=""/>
          <p:cNvPicPr/>
          <p:nvPr/>
        </p:nvPicPr>
        <p:blipFill>
          <a:blip r:embed="rId1"/>
          <a:stretch/>
        </p:blipFill>
        <p:spPr>
          <a:xfrm>
            <a:off x="2886120" y="3643200"/>
            <a:ext cx="6388200" cy="250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353880" y="1090440"/>
            <a:ext cx="1141416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推荐资源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8" name=""/>
          <p:cNvSpPr txBox="1"/>
          <p:nvPr/>
        </p:nvSpPr>
        <p:spPr>
          <a:xfrm>
            <a:off x="353880" y="2174400"/>
            <a:ext cx="1141416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可在以下网址中找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PowerVR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开发团队编写的博客：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ea typeface="SimSun"/>
                <a:hlinkClick r:id="rId1"/>
              </a:rPr>
              <a:t>https://www.imgtec.com/blog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可在以下网址中找到大量演示文稿：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ea typeface="SimSun"/>
                <a:hlinkClick r:id="rId2"/>
              </a:rPr>
              <a:t>https://www.imgtec.com/events/presentations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可以在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GitHub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中找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PowerVR SDK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源代码，网址为：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ea typeface="SimSun"/>
                <a:hlinkClick r:id="rId3"/>
              </a:rPr>
              <a:t>https://github.com/powervr-graphics/Native_SD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有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OpenGL ES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标准的信息，请访问：</a:t>
            </a:r>
            <a:br>
              <a:rPr sz="2800"/>
            </a:b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ea typeface="SimSun"/>
                <a:hlinkClick r:id="rId4"/>
              </a:rPr>
              <a:t>https://www.khronos.org/opengles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353880" y="1090440"/>
            <a:ext cx="1141416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推荐资源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353520" y="2174400"/>
            <a:ext cx="619452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Munshi A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Ginsburg D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Shreiner D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著，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2014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年出版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《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OpenGL ES 3.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编程指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，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版。波士顿：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Addison Wesley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出版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1" name="Picture 2" descr=""/>
          <p:cNvPicPr/>
          <p:nvPr/>
        </p:nvPicPr>
        <p:blipFill>
          <a:blip r:embed="rId1"/>
          <a:stretch/>
        </p:blipFill>
        <p:spPr>
          <a:xfrm>
            <a:off x="7450200" y="1090440"/>
            <a:ext cx="404028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896760" y="1934640"/>
            <a:ext cx="10499760" cy="169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Georgia"/>
                <a:ea typeface="SimSun"/>
              </a:rPr>
              <a:t>移动图形简介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3" name="TextBox 2"/>
          <p:cNvSpPr/>
          <p:nvPr/>
        </p:nvSpPr>
        <p:spPr>
          <a:xfrm>
            <a:off x="192240" y="6488280"/>
            <a:ext cx="1188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000" spc="-1" strike="noStrike">
                <a:solidFill>
                  <a:srgbClr val="ffffff"/>
                </a:solidFill>
                <a:latin typeface="Calibri"/>
                <a:ea typeface="SimSun"/>
              </a:rPr>
              <a:t>Imagination Technologies</a:t>
            </a:r>
            <a:r>
              <a:rPr b="0" lang="zh-CN" sz="1000" spc="-1" strike="noStrike">
                <a:solidFill>
                  <a:srgbClr val="ffffff"/>
                </a:solidFill>
                <a:latin typeface="Calibri"/>
                <a:ea typeface="SimSun"/>
              </a:rPr>
              <a:t>版权所有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353880" y="1090440"/>
            <a:ext cx="1141416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  <a:ea typeface="SimSun"/>
              </a:rPr>
              <a:t>1997</a:t>
            </a:r>
            <a:r>
              <a:rPr b="0" lang="zh-CN" sz="4400" spc="-1" strike="noStrike">
                <a:solidFill>
                  <a:srgbClr val="000000"/>
                </a:solidFill>
                <a:latin typeface="Georgia"/>
                <a:ea typeface="SimSun"/>
              </a:rPr>
              <a:t>年 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  <a:ea typeface="SimSun"/>
              </a:rPr>
              <a:t>- </a:t>
            </a:r>
            <a:r>
              <a:rPr b="0" lang="zh-CN" sz="4400" spc="-1" strike="noStrike">
                <a:solidFill>
                  <a:srgbClr val="000000"/>
                </a:solidFill>
                <a:latin typeface="Georgia"/>
                <a:ea typeface="SimSun"/>
              </a:rPr>
              <a:t>诺基亚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  <a:ea typeface="SimSun"/>
              </a:rPr>
              <a:t>6110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353880" y="2174400"/>
            <a:ext cx="1141416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SimSun"/>
              </a:rPr>
              <a:t>1997</a:t>
            </a:r>
            <a:r>
              <a:rPr b="0" lang="zh-CN" sz="2800" spc="-1" strike="noStrike">
                <a:solidFill>
                  <a:srgbClr val="000000"/>
                </a:solidFill>
                <a:latin typeface="Georgia"/>
                <a:ea typeface="SimSun"/>
              </a:rPr>
              <a:t>年安装在诺基亚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SimSun"/>
              </a:rPr>
              <a:t>6110</a:t>
            </a:r>
            <a:r>
              <a:rPr b="0" lang="zh-CN" sz="2800" spc="-1" strike="noStrike">
                <a:solidFill>
                  <a:srgbClr val="000000"/>
                </a:solidFill>
                <a:latin typeface="Georgia"/>
                <a:ea typeface="SimSun"/>
              </a:rPr>
              <a:t>上的贪食蛇是最早的游戏之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eorgia"/>
                <a:ea typeface="SimSun"/>
              </a:rPr>
              <a:t>诺基亚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SimSun"/>
              </a:rPr>
              <a:t>6110</a:t>
            </a:r>
            <a:r>
              <a:rPr b="0" lang="zh-CN" sz="2800" spc="-1" strike="noStrike">
                <a:solidFill>
                  <a:srgbClr val="000000"/>
                </a:solidFill>
                <a:latin typeface="Georgia"/>
                <a:ea typeface="SimSun"/>
              </a:rPr>
              <a:t>的架构非常简单，图形处理全部在中央处理单元（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SimSun"/>
              </a:rPr>
              <a:t>CPU</a:t>
            </a:r>
            <a:r>
              <a:rPr b="0" lang="zh-CN" sz="2800" spc="-1" strike="noStrike">
                <a:solidFill>
                  <a:srgbClr val="000000"/>
                </a:solidFill>
                <a:latin typeface="Georgia"/>
                <a:ea typeface="SimSun"/>
              </a:rPr>
              <a:t>）上完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6" name="Picture 2" descr=""/>
          <p:cNvPicPr/>
          <p:nvPr/>
        </p:nvPicPr>
        <p:blipFill>
          <a:blip r:embed="rId1"/>
          <a:stretch/>
        </p:blipFill>
        <p:spPr>
          <a:xfrm>
            <a:off x="4591080" y="4008600"/>
            <a:ext cx="30099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353880" y="1090440"/>
            <a:ext cx="1141416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2003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年 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- 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诺基亚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N-Gag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8" name=""/>
          <p:cNvSpPr txBox="1"/>
          <p:nvPr/>
        </p:nvSpPr>
        <p:spPr>
          <a:xfrm>
            <a:off x="353880" y="2174400"/>
            <a:ext cx="750600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2003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年推出的诺基亚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N-Gage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是面向游戏玩家的最早设备之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诺基亚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N-Gage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的架构仍然十分简单，图形处理全部在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CPU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上完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可通过蓝牙实现本地多人游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2004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年发布了面向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N-Gage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使命召唤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9" name="Picture 2" descr=""/>
          <p:cNvPicPr/>
          <p:nvPr/>
        </p:nvPicPr>
        <p:blipFill>
          <a:blip r:embed="rId1"/>
          <a:stretch/>
        </p:blipFill>
        <p:spPr>
          <a:xfrm>
            <a:off x="8136000" y="2066760"/>
            <a:ext cx="3706920" cy="43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353880" y="1090440"/>
            <a:ext cx="1141416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2009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年 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- iPhone 3GS/iPad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1" name=""/>
          <p:cNvSpPr txBox="1"/>
          <p:nvPr/>
        </p:nvSpPr>
        <p:spPr>
          <a:xfrm>
            <a:off x="353880" y="2174400"/>
            <a:ext cx="1141416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初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iPhone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2007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年发布，拥有固定的功能流水线，这意味着它没有可编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GP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iPhone 3GS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的架构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2009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年发布，是最早拥有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CPU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和专用可编程图形处理单元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GPU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）的架构之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GPU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属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PowerVR SGX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系列，支持使用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OpenGL ES 2.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中的片段和顶点着色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N.O.V.A. 2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201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年发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2" name="Picture 10" descr=""/>
          <p:cNvPicPr/>
          <p:nvPr/>
        </p:nvPicPr>
        <p:blipFill>
          <a:blip r:embed="rId1"/>
          <a:stretch/>
        </p:blipFill>
        <p:spPr>
          <a:xfrm>
            <a:off x="7653240" y="4067280"/>
            <a:ext cx="387684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353880" y="1090440"/>
            <a:ext cx="1141416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2014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年 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- iPhone 5S/iPad Air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353520" y="2174760"/>
            <a:ext cx="1099836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iPhone 5S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架构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2014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年发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GPU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属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PowerVR</a:t>
            </a:r>
            <a:r>
              <a:rPr b="0" lang="en-US" sz="2800" spc="-1" strike="noStrike">
                <a:solidFill>
                  <a:srgbClr val="000000"/>
                </a:solidFill>
                <a:latin typeface="SimSun"/>
                <a:ea typeface="SimSu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Rogue</a:t>
            </a:r>
            <a:r>
              <a:rPr b="0" lang="en-US" sz="2800" spc="-1" strike="noStrike">
                <a:solidFill>
                  <a:srgbClr val="000000"/>
                </a:solidFill>
                <a:latin typeface="SimSun"/>
                <a:ea typeface="SimSun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系列，支持通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OpenGL ES 3.0+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进行着色器编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SimSun"/>
              </a:rPr>
              <a:t>视频地址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imSun"/>
              </a:rPr>
              <a:t>https://v.youku.com/v_show/id_XNjA3NjQzODI4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5" name="6ny6oSHyoqg" descr=""/>
          <p:cNvPicPr/>
          <p:nvPr/>
        </p:nvPicPr>
        <p:blipFill>
          <a:blip r:embed="rId1"/>
          <a:stretch/>
        </p:blipFill>
        <p:spPr>
          <a:xfrm>
            <a:off x="3524400" y="3592440"/>
            <a:ext cx="514332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2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2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353880" y="1090440"/>
            <a:ext cx="1141416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2014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年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353520" y="2174400"/>
            <a:ext cx="1121436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移动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GPU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架构上开始采用高端台式机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GPU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架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一些移动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GPU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架构的通用计算图形处理单元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GPGPU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）功能已经体现了这一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OpenGL ES 3.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SimSun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API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SimSun"/>
              </a:rPr>
              <a:t>中添加了执行通用计算的功能，从而将计算引入到移动图形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光线追踪功能开始在一些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GPU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设计中出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随着新型移动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GPU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架构的每次迭代，这将带来更多的存储器带宽、更大的帧缓冲区、更高效的流水线以及曲面细分等全新硬件技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353880" y="1090440"/>
            <a:ext cx="1141416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2014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年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353880" y="2174400"/>
            <a:ext cx="1141416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这是一张使用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PowerVR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光线追踪技术渲染后的图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0" name="Picture 2" descr="floor2"/>
          <p:cNvPicPr/>
          <p:nvPr/>
        </p:nvPicPr>
        <p:blipFill>
          <a:blip r:embed="rId1"/>
          <a:stretch/>
        </p:blipFill>
        <p:spPr>
          <a:xfrm>
            <a:off x="2575080" y="2833560"/>
            <a:ext cx="659448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353880" y="1090440"/>
            <a:ext cx="1141416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2014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年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2" name=""/>
          <p:cNvSpPr txBox="1"/>
          <p:nvPr/>
        </p:nvSpPr>
        <p:spPr>
          <a:xfrm>
            <a:off x="353880" y="2174400"/>
            <a:ext cx="1107144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这张演示图像展示了使用基于物理渲染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PBR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）产生光线追踪效果的功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3" name="Online Media 5" descr=""/>
          <p:cNvPicPr/>
          <p:nvPr/>
        </p:nvPicPr>
        <p:blipFill>
          <a:blip r:embed="rId1"/>
          <a:stretch/>
        </p:blipFill>
        <p:spPr>
          <a:xfrm>
            <a:off x="3048120" y="3112920"/>
            <a:ext cx="609588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233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233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1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353880" y="1407600"/>
            <a:ext cx="1141416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内容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353880" y="3211200"/>
            <a:ext cx="11414160" cy="32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模块简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移动图形简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移动图形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896760" y="1934640"/>
            <a:ext cx="10499760" cy="169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Georgia"/>
                <a:ea typeface="SimSun"/>
              </a:rPr>
              <a:t>移动图形库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5" name="TextBox 2"/>
          <p:cNvSpPr/>
          <p:nvPr/>
        </p:nvSpPr>
        <p:spPr>
          <a:xfrm>
            <a:off x="192240" y="6488280"/>
            <a:ext cx="1188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000" spc="-1" strike="noStrike">
                <a:solidFill>
                  <a:srgbClr val="ffffff"/>
                </a:solidFill>
                <a:latin typeface="Calibri"/>
                <a:ea typeface="SimSun"/>
              </a:rPr>
              <a:t>Imagination Technologies</a:t>
            </a:r>
            <a:r>
              <a:rPr b="0" lang="zh-CN" sz="1000" spc="-1" strike="noStrike">
                <a:solidFill>
                  <a:srgbClr val="ffffff"/>
                </a:solidFill>
                <a:latin typeface="Calibri"/>
                <a:ea typeface="SimSun"/>
              </a:rPr>
              <a:t>版权所有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353880" y="1090440"/>
            <a:ext cx="1141416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可缩放矢量图形（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SVG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）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- 2001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年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7" name=""/>
          <p:cNvSpPr txBox="1"/>
          <p:nvPr/>
        </p:nvSpPr>
        <p:spPr>
          <a:xfrm>
            <a:off x="353880" y="2174400"/>
            <a:ext cx="1141416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可缩放矢量图形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SVG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）格式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W3C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工作组开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2001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年，一些移动设备行业采用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SVG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作为图形平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SVG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使用可适当缩放的矢量图形来渲染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2D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图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53880" y="1090440"/>
            <a:ext cx="1141416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可缩放矢量图形（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SVG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）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- 2001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年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353880" y="2174400"/>
            <a:ext cx="1141416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与简单地缩放形状的图像相比，使用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SVG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绘制形状会实现更好的结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例如，如果要按比例放大一个小圆圈的图像，缩放的结果将存在伪影（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），而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SVG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将以适当的尺寸渲染出圆圈（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0" name="Group 9"/>
          <p:cNvGrpSpPr/>
          <p:nvPr/>
        </p:nvGrpSpPr>
        <p:grpSpPr>
          <a:xfrm>
            <a:off x="2451240" y="4402080"/>
            <a:ext cx="7289640" cy="2247840"/>
            <a:chOff x="2451240" y="4402080"/>
            <a:chExt cx="7289640" cy="2247840"/>
          </a:xfrm>
        </p:grpSpPr>
        <p:sp>
          <p:nvSpPr>
            <p:cNvPr id="1241" name="Oval 10"/>
            <p:cNvSpPr/>
            <p:nvPr/>
          </p:nvSpPr>
          <p:spPr>
            <a:xfrm>
              <a:off x="6621840" y="4862880"/>
              <a:ext cx="924120" cy="898200"/>
            </a:xfrm>
            <a:prstGeom prst="ellipse">
              <a:avLst/>
            </a:prstGeom>
            <a:solidFill>
              <a:srgbClr val="ed7d31"/>
            </a:solidFill>
            <a:ln w="57240">
              <a:solidFill>
                <a:srgbClr val="4472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buClr>
                  <a:srgbClr val="000099"/>
                </a:buClr>
                <a:buFont typeface="Wingdings" charset="2"/>
                <a:buChar char="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2" name="Oval 10"/>
            <p:cNvSpPr/>
            <p:nvPr/>
          </p:nvSpPr>
          <p:spPr>
            <a:xfrm>
              <a:off x="7892640" y="4416840"/>
              <a:ext cx="1848240" cy="1796760"/>
            </a:xfrm>
            <a:prstGeom prst="ellipse">
              <a:avLst/>
            </a:prstGeom>
            <a:solidFill>
              <a:srgbClr val="ed7d31"/>
            </a:solidFill>
            <a:ln w="114480">
              <a:solidFill>
                <a:srgbClr val="4472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buClr>
                  <a:srgbClr val="000099"/>
                </a:buClr>
                <a:buFont typeface="Wingdings" charset="2"/>
                <a:buChar char="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3" name="Oval 10"/>
            <p:cNvSpPr/>
            <p:nvPr/>
          </p:nvSpPr>
          <p:spPr>
            <a:xfrm>
              <a:off x="2451240" y="4862880"/>
              <a:ext cx="924120" cy="898200"/>
            </a:xfrm>
            <a:prstGeom prst="ellipse">
              <a:avLst/>
            </a:prstGeom>
            <a:solidFill>
              <a:srgbClr val="ed7d31"/>
            </a:solidFill>
            <a:ln w="57240">
              <a:solidFill>
                <a:srgbClr val="4472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buClr>
                  <a:srgbClr val="000099"/>
                </a:buClr>
                <a:buFont typeface="Wingdings" charset="2"/>
                <a:buChar char="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4" name="TextBox 4"/>
            <p:cNvSpPr/>
            <p:nvPr/>
          </p:nvSpPr>
          <p:spPr>
            <a:xfrm>
              <a:off x="2533680" y="6269040"/>
              <a:ext cx="25221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1840" bIns="51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91919"/>
                  </a:solidFill>
                  <a:latin typeface="Calibri"/>
                  <a:ea typeface="SimSun"/>
                </a:rPr>
                <a:t>图</a:t>
              </a:r>
              <a:r>
                <a:rPr b="0" lang="en-US" sz="1800" spc="-1" strike="noStrike">
                  <a:solidFill>
                    <a:srgbClr val="191919"/>
                  </a:solidFill>
                  <a:latin typeface="Calibri"/>
                  <a:ea typeface="SimSun"/>
                </a:rPr>
                <a:t>1. </a:t>
              </a:r>
              <a:r>
                <a:rPr b="0" lang="zh-CN" sz="1800" spc="-1" strike="noStrike">
                  <a:solidFill>
                    <a:srgbClr val="191919"/>
                  </a:solidFill>
                  <a:latin typeface="Calibri"/>
                  <a:ea typeface="SimSun"/>
                </a:rPr>
                <a:t>图像</a:t>
              </a:r>
              <a:r>
                <a:rPr b="0" lang="en-US" sz="1800" spc="-1" strike="noStrike">
                  <a:solidFill>
                    <a:srgbClr val="191919"/>
                  </a:solidFill>
                  <a:latin typeface="Calibri"/>
                  <a:ea typeface="SimSun"/>
                </a:rPr>
                <a:t>2</a:t>
              </a:r>
              <a:r>
                <a:rPr b="0" lang="zh-CN" sz="1800" spc="-1" strike="noStrike">
                  <a:solidFill>
                    <a:srgbClr val="191919"/>
                  </a:solidFill>
                  <a:latin typeface="Calibri"/>
                  <a:ea typeface="SimSun"/>
                </a:rPr>
                <a:t>倍缩放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5" name="TextBox 11"/>
            <p:cNvSpPr/>
            <p:nvPr/>
          </p:nvSpPr>
          <p:spPr>
            <a:xfrm>
              <a:off x="6831000" y="6269040"/>
              <a:ext cx="23349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1840" bIns="51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  <a:ea typeface="SimSun"/>
                </a:rPr>
                <a:t>图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SimSun"/>
                </a:rPr>
                <a:t>2. SVG 2</a:t>
              </a:r>
              <a:r>
                <a:rPr b="0" lang="zh-CN" sz="1800" spc="-1" strike="noStrike">
                  <a:solidFill>
                    <a:srgbClr val="ffffff"/>
                  </a:solidFill>
                  <a:latin typeface="Calibri"/>
                  <a:ea typeface="SimSun"/>
                </a:rPr>
                <a:t>倍缩放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46" name="Picture 6" descr=""/>
            <p:cNvPicPr/>
            <p:nvPr/>
          </p:nvPicPr>
          <p:blipFill>
            <a:blip r:embed="rId1"/>
            <a:stretch/>
          </p:blipFill>
          <p:spPr>
            <a:xfrm>
              <a:off x="3648960" y="4402080"/>
              <a:ext cx="1848240" cy="1820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353880" y="1090440"/>
            <a:ext cx="1141416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OpenGL ES 1.X - 2002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年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353520" y="2174400"/>
            <a:ext cx="1150308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对移动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3D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图形硬件的需求促成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OpenGL for Embedded Systems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OpenGL ES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）的诞生，它是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Khronos Group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开发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OpenGL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图形开放标准的一个子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OpenGL ES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是一种跨平台的接口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OpenGL ES 1.X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的实施者包括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Imagination Technologies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SimSun"/>
              </a:rPr>
              <a:t>、索尼电脑娱乐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ARM Limited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SimSun"/>
              </a:rPr>
              <a:t>、英特尔、富士通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NVIDIA Corporation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SimSun"/>
              </a:rPr>
              <a:t>、苹果公司、高通、英伟达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Marvell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SimSu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ARM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SimSun"/>
              </a:rPr>
              <a:t>、创新科技公司、联发科、诺基亚、松下、博通、谷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353880" y="1090440"/>
            <a:ext cx="1141416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OpenGL ES 1.X - 2002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年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0" name=""/>
          <p:cNvSpPr txBox="1"/>
          <p:nvPr/>
        </p:nvSpPr>
        <p:spPr>
          <a:xfrm>
            <a:off x="353520" y="2174400"/>
            <a:ext cx="1128708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OpenGL ES 1.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是定义的第一个开放式标准，拥有固定功能流水线和顶点数组，同时删除了许多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OpenGL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操作和图元渲染功能以创建一个轻量级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固定功能流水线在某种程度上是可定制的，但开发人员不能灵活地创造定制的图形效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顶点数组是保存在主系统存储器中的数据结构，包含了发送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GPU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的每一帧的几何信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这些技术将在后面详细说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353880" y="1090440"/>
            <a:ext cx="1141416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OpenGL ES 1.X - 2003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年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353880" y="2174400"/>
            <a:ext cx="1141416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OpenGL ES 1.1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添加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OpenGL ES 1.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中缺少的部分功能，包括顶点缓冲区对象、自动贴图生成和多重纹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顶点缓冲区对象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VBO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）是通常保存在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GPU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存储器中的数据结构，仅包含一次发送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GPU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的几何信息，从而减少了由顶点数组造成的瓶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贴图是代表单个图像的一系列不同分辨率的纹理图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多重纹理允许将多个图像组合到同一多边形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53880" y="1090440"/>
            <a:ext cx="1141416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移动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3D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图形（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M3G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）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- 2003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年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353880" y="2174400"/>
            <a:ext cx="735336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移动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3D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图形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M3G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API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适用于运行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Java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代码的移动设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如果移动设备没有受支持的硬件，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M3G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可以在软件内部运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都市赛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：街头主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专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M3G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而开发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5" name="Picture 2" descr=""/>
          <p:cNvPicPr/>
          <p:nvPr/>
        </p:nvPicPr>
        <p:blipFill>
          <a:blip r:embed="rId1"/>
          <a:stretch/>
        </p:blipFill>
        <p:spPr>
          <a:xfrm>
            <a:off x="8304120" y="2178000"/>
            <a:ext cx="327348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353880" y="1090440"/>
            <a:ext cx="1141416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OpenGL ES 2.0 - 2005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年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353880" y="2174400"/>
            <a:ext cx="1141416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OpenGL ES 2.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是一种可编程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3D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图形流水线，开发人员可以使用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OpenGL ES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着色语言编写顶点和片段着色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OpenGL ES 2.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不支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OpenGL ES 1.X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的固定功能变换和片段流水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顶点着色器支持在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GPU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上直接执行代码来实现顶点属性的变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片段着色器支持在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GPU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上直接执行代码来计算对象占用的各像素的颜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353880" y="1090440"/>
            <a:ext cx="1141416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WebGL - 2011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年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353880" y="2174400"/>
            <a:ext cx="1141416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Web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图形库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WebGL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）是一种基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OpenGL ES 2.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3D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图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JavaScript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WebGL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使用着色器进行图形处理，因此不支持早期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OpenGL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的固定功能变换和片段流水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WebGL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可以在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HTML5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画布中使用，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HTML5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画布允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3D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图形在兼容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Web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浏览器中运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353880" y="1090440"/>
            <a:ext cx="1141416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WebGL - 2011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年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353880" y="2174400"/>
            <a:ext cx="1135872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HexGL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是一款充满未来风格的赛车游戏，玩家可以在使用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WebGL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HTML5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构建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Web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浏览器中直接操作游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ea typeface="SimSun"/>
                <a:hlinkClick r:id="rId1"/>
              </a:rPr>
              <a:t>http://hexgl.bkcore.com/play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2" name="se-oorr2zM8" descr=""/>
          <p:cNvPicPr/>
          <p:nvPr/>
        </p:nvPicPr>
        <p:blipFill>
          <a:blip r:embed="rId2"/>
          <a:stretch/>
        </p:blipFill>
        <p:spPr>
          <a:xfrm>
            <a:off x="3029040" y="3089160"/>
            <a:ext cx="613404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1262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1262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1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353880" y="1090440"/>
            <a:ext cx="1141416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模块简介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353880" y="2174400"/>
            <a:ext cx="1141416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教学资料分为讲座资料和实践资料两部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讲座部分引入主题，内容涵盖对这些主题的高级描述，包括着色器代码等方面的相应示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实践资料帮助学生熟悉如何使用提供的框架编写着色器代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353880" y="1090440"/>
            <a:ext cx="1141416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OpenGL ES 3.X - 2012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年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353880" y="2174400"/>
            <a:ext cx="1141416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OpenGL ES 3.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是一种可编程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3D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图形流水线，不支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OpenGL ES 1.X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的固定功能变换和片段流水线，但完全兼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OpenGL ES 2.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一些新增技术包括多重渲染目标和几何体实例化，并且完全支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32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位浮点和整数运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SimSun"/>
              </a:rPr>
              <a:t>渲染目标是一个可以渲染的缓冲区，例如纹理。多重渲染目标支持延迟着色等技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SimSun"/>
              </a:rPr>
              <a:t>几何体实例化允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GPU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SimSun"/>
              </a:rPr>
              <a:t>多次绘制相同的几何体，而只需将几何体提交到渲染流水线一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353880" y="1090440"/>
            <a:ext cx="1141416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OpenGL ES 3.X - 2014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年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353880" y="2174400"/>
            <a:ext cx="1141416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OpenGL ES 3.1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向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OpenGL ES 3.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中添加了一些额外功能，其中包括计算着色器功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计算着色器支持在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GPU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上直接执行代码，从而可以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GPU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用作通用处理器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GPGPU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）而不是用于图形处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因此，它允许软件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GPU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的专用计算能力用于一般任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353880" y="1090440"/>
            <a:ext cx="1141416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Vulkan - 2015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年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8" name=""/>
          <p:cNvSpPr txBox="1"/>
          <p:nvPr/>
        </p:nvSpPr>
        <p:spPr>
          <a:xfrm>
            <a:off x="353880" y="2174400"/>
            <a:ext cx="1141416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对更底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3D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图形进行硬件访问的需求促成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Vulkan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的诞生，这是一个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Khronos Group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开发的开放式标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Vulkan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是一种跨平台的接口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353880" y="1090440"/>
            <a:ext cx="1141416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Vulka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70" name="Online Media 3" descr=""/>
          <p:cNvPicPr/>
          <p:nvPr/>
        </p:nvPicPr>
        <p:blipFill>
          <a:blip r:embed="rId1"/>
          <a:stretch/>
        </p:blipFill>
        <p:spPr>
          <a:xfrm>
            <a:off x="2179800" y="2174760"/>
            <a:ext cx="7764480" cy="4367160"/>
          </a:xfrm>
          <a:prstGeom prst="rect">
            <a:avLst/>
          </a:prstGeom>
          <a:ln w="0">
            <a:noFill/>
          </a:ln>
        </p:spPr>
      </p:pic>
      <p:sp>
        <p:nvSpPr>
          <p:cNvPr id="1271" name="Rectangle 6"/>
          <p:cNvSpPr/>
          <p:nvPr/>
        </p:nvSpPr>
        <p:spPr>
          <a:xfrm>
            <a:off x="230040" y="4576680"/>
            <a:ext cx="609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https://v.youku.com/v_show/id_XNDYyNTM0ODA4NA==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1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1270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1270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" dur="1" fill="hold"/>
                                        <p:tgtEl>
                                          <p:spTgt spid="1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353880" y="1090440"/>
            <a:ext cx="1141416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Vulkan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与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OpenGL 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3" name=""/>
          <p:cNvSpPr txBox="1"/>
          <p:nvPr/>
        </p:nvSpPr>
        <p:spPr>
          <a:xfrm>
            <a:off x="353880" y="2174400"/>
            <a:ext cx="1141416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OpenGL ES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具有单个上下文，并且只有一个全局状态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SimSun"/>
              </a:rPr>
              <a:t>这意味着只能按顺序执行操作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–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SimSun"/>
              </a:rPr>
              <a:t>单核设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Vulkan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允许将所有状态概念发送到命令缓冲区，而且它以对象为基础，没有全局状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SimSun"/>
              </a:rPr>
              <a:t>这意味着可以实现多线程编程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–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SimSun"/>
              </a:rPr>
              <a:t>多核设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由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Vulkan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可对硬件进行底层访问，能够充分利用现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GPU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架构，因此它比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OpenGL ES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更高效，尽管这意味着它在设置和学习上都比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OpenGL ES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更加复杂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353880" y="1090440"/>
            <a:ext cx="1141416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Vulkan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与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OpenGL 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5" name=""/>
          <p:cNvSpPr txBox="1"/>
          <p:nvPr/>
        </p:nvSpPr>
        <p:spPr>
          <a:xfrm>
            <a:off x="353880" y="2174400"/>
            <a:ext cx="1141416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由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Vulkan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的学习比较复杂，因此本模块主要使用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OpenGL ES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这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API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进行教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但是，我们将在适当的时候介绍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Vulkan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的比较和示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53880" y="1090440"/>
            <a:ext cx="1141416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模块简介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353880" y="2174400"/>
            <a:ext cx="1141416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本模块涵盖下面几个主题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SimSun"/>
              </a:rPr>
              <a:t>图形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SimSun"/>
              </a:rPr>
              <a:t>图形架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SimSun"/>
              </a:rPr>
              <a:t>瓶颈和优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SimSun"/>
              </a:rPr>
              <a:t>变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OpenGL ES 3.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SimSun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OpenGL ES 2.0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SimSun"/>
              </a:rPr>
              <a:t>着色器编程，包括纹理和照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53880" y="1090440"/>
            <a:ext cx="1141416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模块简介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353880" y="2174400"/>
            <a:ext cx="1107144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OpenGL ES 3.0+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向下兼容，因此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OpenGL ES 2.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语法可在新版本硬件上运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实际实验会话中的大多数示例都基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OpenGL ES 2.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代码语法，需要在开发旧版本硬件和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BeagleBone© Black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等嵌入式设备时使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但是，我们也会在讲座幻灯片中适当探讨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OpenGL 3.0+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语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可以在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PowerVR SDK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代码示例部分中看到许多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OpenGL ES 3.0+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代码示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353880" y="1090440"/>
            <a:ext cx="1141416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模块简介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353880" y="2174400"/>
            <a:ext cx="1141416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PowerVR SDK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将用于本模块的教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PowerVR SDK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允许大多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C++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和图形代码独立于平台存在，因此可轻松将同一代码从一个平台移植到另一个平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适用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Windows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Linux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OSX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PVRVFrame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是一种支持在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Windows PC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上编写和仿真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OpenGL ES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代码的框架，包含在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PowerVR SDK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此外，还提供了许多辅助开发图形代码的工具，包括分析图形代码和压缩纹理的工具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53880" y="1090440"/>
            <a:ext cx="1141416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模块简介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53880" y="2174400"/>
            <a:ext cx="1141416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开发人员可利用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Unity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等工具轻松使用多种着色器程序，而无需精通着色器编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但是，由于与台式机等设备使用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GPU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相比，移动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GPU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的性能有限，因此编写自己的高效渲染代码至关重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学习如何编写自己的高效着色器对于移动图形开发尤为重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353880" y="1090440"/>
            <a:ext cx="1141416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模块简介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353880" y="2174400"/>
            <a:ext cx="1141416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本教学模块的主要用途是学习如何编写自己的着色器程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因此，完成本教学模块后，您将能够编写自己的着色器，并了解性能方面的考虑因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53880" y="1090440"/>
            <a:ext cx="1141416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SimSun"/>
              </a:rPr>
              <a:t>推荐资源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353880" y="2174400"/>
            <a:ext cx="1141416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可以在论坛中找到相关问题的答案，网址为：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ea typeface="SimSun"/>
                <a:hlinkClick r:id="rId1"/>
              </a:rPr>
              <a:t>https://forums.imgtec.co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PowerVR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主页：</a:t>
            </a:r>
            <a:br>
              <a:rPr sz="2800"/>
            </a:b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ea typeface="SimSun"/>
                <a:hlinkClick r:id="rId2"/>
              </a:rPr>
              <a:t>https://www.imgtec.com/developers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SDK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下载位置：</a:t>
            </a:r>
            <a:br>
              <a:rPr sz="2800"/>
            </a:b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ea typeface="SimSun"/>
                <a:hlinkClick r:id="rId3"/>
              </a:rPr>
              <a:t>https://www.imgtec.com/developers/powervr-sdk-tools/installers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SimSun"/>
              </a:rPr>
              <a:t>文档位置：</a:t>
            </a:r>
            <a:br>
              <a:rPr sz="2800"/>
            </a:b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ea typeface="SimSun"/>
                <a:hlinkClick r:id="rId4"/>
              </a:rPr>
              <a:t>https://docs.imgtec.co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04T10:04:44Z</dcterms:created>
  <dc:creator>Darren McKie</dc:creator>
  <dc:description/>
  <dc:language>en-US</dc:language>
  <cp:lastModifiedBy>JEANHAOPEM</cp:lastModifiedBy>
  <dcterms:modified xsi:type="dcterms:W3CDTF">2020-05-21T17:20:32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A0D8EA4D090554198227F70DAC02E78</vt:lpwstr>
  </property>
  <property fmtid="{D5CDD505-2E9C-101B-9397-08002B2CF9AE}" pid="3" name="KSOProductBuildVer">
    <vt:lpwstr>1033-2.2.0.3563</vt:lpwstr>
  </property>
</Properties>
</file>